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BDF-6F6C-4453-BBC8-9EBC465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6D6-FB8D-49FE-A73F-82BF52E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029-6A62-4C16-9838-1F03E9C4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560-9CE5-4EF1-A8D3-C3CF583B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63A-5C13-4D0E-AAA9-924A4BC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16B-5BFD-4329-8B80-7FBFAA5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3A1-2C06-440A-AF35-39A0375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01B-470D-4F63-94D1-56FE895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E85-4D25-45F8-B768-2DD699B3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8A0-5A00-4C38-88B0-4B0434F5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6A7-74B4-4E82-A891-2D6E080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678-48F8-4EDB-B8E6-8A569C0C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D57-2DD0-4AC7-B5BE-19E27183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roundtruthtrekking.org/blo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oubt Eru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day March 22 - Monday March 30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914400" y="6155280"/>
            <a:ext cx="7010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graph of Redoubt's March 27, 19:25 eruption cloud, as seen from near Hom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graph courtesy of Dennis And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April 1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day March 2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:38 pm AKDT.  Tops 2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:56 pm AKDT.  Tops to 5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March 2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mall erup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:37 am AKDT.  Tops to 6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:41 pm AKDT.  Tops 50,000 to 60,000 fe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762120" y="609516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ashfall, taken from Tordrillo Mountain Lodge on Judd Lake (just north of Beluga Lake, at the head of the Talachulitna River.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graph courtesy of Lel To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March 26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38 am AKDT.  Tops unk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24 am AKDT.  Tops to at least 65,000 feet.  Measurement of the shadow indicate approximately 73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began at 11:47 pm AKDT.  Tops 30,000 to 50,000 feet. Lasted into early morning March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uption produced a lahar down the Drift River.  Mudflows are occurring in the Drift River Valley and pyroclastic flows were observed by the AVO web came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March 2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:40 am AKDT.  Tops to 5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:35 pm AKDT.  Tops to 4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:25 pm AKDT.  Tops to 51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0 pm AKDT.  Tops to 4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733920"/>
            <a:ext cx="3429000" cy="2485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122120" y="6323760"/>
            <a:ext cx="70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of lightning from Redoubt's 11:20 pm, March 27, eruption, courtesy of Bretwood Hig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day March 2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 am AKDT.  Tops to 5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 pm AKDT.  Tops 25,000 to 3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9 pm AKDT.  Tops to 35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3 pm AKDT.  Tops to 45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fall N. Kenai Peninsula, Anchorage, Mat-Su Valley to Val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orage International closed due to ashf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76720" y="43434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197640" y="6400080"/>
            <a:ext cx="870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of Redoubt's ash cloud, viewed while traveling between Kenai and Nikiski. Photograph courtesy of Jaden Lars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nday March 2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0 am AKDT.  Steam emission to 25,000 feet.  Seismicity decreased within 1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4 pm AKDT.  Ash cloud tops to 20,000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 March 30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4 am AKDT.  Ash cloud tops to 27,000 f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26 pm AKDT.  Ash cloud tops to 25,000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event began.  Estimated 250 canceled flights.  Over 10,000 impacted passengers.  Cargo flights diverted to Oakland, Seattle, Vancouver.  FedEx and UPS cutting staff (laying off support staff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esday March 31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7 pm AKDT.  Tops 25,000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 Airlines canceled all flights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2:15:25Z</dcterms:created>
  <dc:creator>jeffrey.osiensky</dc:creator>
  <dc:description/>
  <dc:language>en-US</dc:language>
  <cp:lastModifiedBy>Jeffrey.Osiensky</cp:lastModifiedBy>
  <dcterms:modified xsi:type="dcterms:W3CDTF">2009-04-01T15:52:17Z</dcterms:modified>
  <cp:revision>6</cp:revision>
  <dc:subject/>
  <dc:title>Redoubt Eruptions</dc:title>
</cp:coreProperties>
</file>